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6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10E28-5498-44EE-9CC1-AA17E6A3BC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21C09-A543-458B-A150-61E663DECE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AEF1B-FAE6-466A-9BC0-6A145CA100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52018-7901-48A2-8AB8-A489FB59ED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B023C-E5EB-4C95-A7C6-F79B574CEB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A18-38B5-48BB-B005-56F62E93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064-C718-46D1-8A9B-A3AD8F87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37E-9FCA-4675-B81A-B563CCBF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A1B-60AA-494D-B9E4-2F0BA066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203F-8764-4CEE-B4F4-85C98DAE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1BE7-B107-4C3D-AA2A-E4B70103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E028-D460-48D0-A667-60ACC312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028C-3237-4AA6-94EF-D7B6BECD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EB21-0119-4C97-8DC1-003984A7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9987-F710-40A3-A616-5872C2C5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004E-D8D8-43E2-8A12-017416FE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32A-C865-4378-985A-3CE6B7C7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23AB-56E9-4760-B33B-4E04D712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F623-00CB-4B28-9A06-2E016A19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DDCD-BEEE-4783-BB7B-2370CE4B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BF56-5F4F-46DE-9B03-30B9F961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DF22-754C-4C5F-8B05-D3229C1D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C09B-1D4D-4C0B-9E8B-BAD317CD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6C5F3-5BBB-4E8E-81B5-A4AEE7C9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16DC-E4D2-4421-946C-0DD3340A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4CB06-1006-497C-8D71-44D012D3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A329-20FE-489D-87A5-5039DF5A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680-D082-45A5-808C-E659CA19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D644B-84D0-4C02-BAEA-72ED4392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B22A8-BE34-4127-96EB-3746669F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D7BDD-9851-494B-B69E-BA3791A6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F0B8F-96E4-4625-A041-8C61ADE9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45F5-7EAC-49EF-B3F9-53D61031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9AE5-D0A6-4B9F-A6A0-86A37BCA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CCDDB-79F2-402E-BB6C-BFDA29DC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0D3A4-F2A4-4BAE-A232-06A6C8F2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006A-F5FD-4AA3-9B7F-6F4798B0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B218-D292-4FF0-B2A7-902EB7CA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E2B-6652-41B3-9856-D7BE1D63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7E063-7288-475F-9A73-493DF6AE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D1B80-6CC6-4EB2-A048-F5984062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518B6-A1FC-4012-A676-74222ECD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DA0B8-21FC-4594-A884-28E43AD3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19D71-6E30-476C-B7CF-40B60FBF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0DD1D-90D9-40EA-9D0B-97135F67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555FA-B81D-401E-AEAE-857F1E7E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F945-9BBB-46FA-AEB8-F7FAED64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5684-1711-4ABF-9B47-03B08E72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C1A4A-8A82-4AFC-9807-E3173DA8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BF6-E76D-48A6-84E9-54680B30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6F3B9-57D3-4BBA-AFA7-FC965E75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90FB0-0383-4714-80F6-E0D24AA2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F11B7-66EF-464B-8602-F8CCF4AC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38982-D2AC-4561-B028-BCDC5367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A5AC6-748E-47E1-9CE9-7E114688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65137-3684-47AC-A346-3145EB14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1FF19-7B8D-4A7A-A52E-1748118D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A7D7-9965-483A-9827-6D7F7BA2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8B23-BED1-422F-878F-8FAEAB50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FA45E-A65F-4B94-A91F-FAD94BAE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8B1-28A8-4C9C-A648-F57355DA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1FD14-8176-4377-95D2-82B7D671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80D-3126-4578-9526-0D7463CC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E05-5FE1-48B5-AE04-EAF71138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C3A-556C-40E4-A811-C0B74823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50b4c8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38B0F-C9B6-4452-8718-312D6054DF62}" type="slidenum">
              <a:rPr b="0" lang="ru-RU" sz="9000" spc="-1" strike="noStrike">
                <a:solidFill>
                  <a:srgbClr val="50b4c8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941BD-C36D-4A20-9960-E079980E94A6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6FBF3-C031-4EF6-BE90-9464C6BADC42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351EF-4339-4C74-BA2B-98D400640252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50b4c8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B4BB3-3817-4DA5-9F41-E1BF8CFEC84F}" type="slidenum">
              <a:rPr b="0" lang="ru-RU" sz="9000" spc="-1" strike="noStrike">
                <a:solidFill>
                  <a:srgbClr val="50b4c8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826920" y="1268280"/>
            <a:ext cx="7632720" cy="4033800"/>
          </a:xfrm>
          <a:prstGeom prst="rect">
            <a:avLst/>
          </a:prstGeom>
          <a:gradFill rotWithShape="0">
            <a:gsLst>
              <a:gs pos="0">
                <a:srgbClr val="f6fbfc"/>
              </a:gs>
              <a:gs pos="100000">
                <a:srgbClr val="cbe8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 algn="ctr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ctr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ctr">
              <a:lnSpc>
                <a:spcPct val="150000"/>
              </a:lnSpc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тчет о научно-исследовательской деятельности РГГ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ctr">
              <a:lnSpc>
                <a:spcPct val="150000"/>
              </a:lnSpc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 2017 год и задачи на 2018 го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ирования НИР государственного задания РГГМУ в  2017 году</a:t>
            </a:r>
            <a:br>
              <a:rPr sz="2000"/>
            </a:br>
            <a:endParaRPr b="0" lang="en-US" sz="20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8000" y="836640"/>
          <a:ext cx="8748720" cy="5797440"/>
        </p:xfrm>
        <a:graphic>
          <a:graphicData uri="http://schemas.openxmlformats.org/drawingml/2006/table">
            <a:tbl>
              <a:tblPr/>
              <a:tblGrid>
                <a:gridCol w="3870360"/>
                <a:gridCol w="1204920"/>
                <a:gridCol w="1311120"/>
                <a:gridCol w="1328760"/>
                <a:gridCol w="1033560"/>
              </a:tblGrid>
              <a:tr h="433440">
                <a:tc rowSpan="2"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про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 организации на 2017 год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дамен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ивные научные про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базовая час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5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5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проекты, выполняемые научными коллективами научных лабораторий на конкурсной осно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конкурсная час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о-технические сотрудники на постоянной основ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6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6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научно-исследовательских работ (НИР), в интересах Департаментов Минобрнауки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80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80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4 84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  561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92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 28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95280" y="907920"/>
          <a:ext cx="8424720" cy="5818320"/>
        </p:xfrm>
        <a:graphic>
          <a:graphicData uri="http://schemas.openxmlformats.org/drawingml/2006/table">
            <a:tbl>
              <a:tblPr/>
              <a:tblGrid>
                <a:gridCol w="260280"/>
                <a:gridCol w="1468440"/>
                <a:gridCol w="4969080"/>
                <a:gridCol w="1726920"/>
              </a:tblGrid>
              <a:tr h="61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0b4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0b4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0b4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0b4c8"/>
                    </a:solidFill>
                  </a:tcPr>
                </a:tc>
              </a:tr>
              <a:tr h="3319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нициативные научные проекты (базовая част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493.2017/Б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ирование изменчивости газового состава Арктики в условиях меняющегося клим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шляев С. 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</a:tr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293.2017/Б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ительность многолетнего речного стока и основных водозависимых отраслей экономики к изменениям клим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дукова Е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 16.05.20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</a:tr>
              <a:tr h="79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010.2017/Б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влияния климатических и биологических факторов на эволюцию прибрежных экосистем Балтийского мо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ина Т.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</a:tr>
              <a:tr h="64764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ые проекты, выполняемые научными коллективами научных лабораторий на конкурсной основе (конкурс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928.2017/П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овых методов исследования экстремальных явлений в системе океан - атмосфера на основе синергетики спутниковых измерений и моде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вцев В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</a:tr>
              <a:tr h="4399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ведение научно-исследовательских работ в интересах Департаментов 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425.2017/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состояния и перспектив развития научных исследований в Арктической зоне Российской Федерации и Мировом океане, включая береговую зону окраинных морей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беридзе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</a:tr>
            </a:tbl>
          </a:graphicData>
        </a:graphic>
      </p:graphicFrame>
      <p:sp>
        <p:nvSpPr>
          <p:cNvPr id="232" name="Прямоугольник 2"/>
          <p:cNvSpPr/>
          <p:nvPr/>
        </p:nvSpPr>
        <p:spPr>
          <a:xfrm>
            <a:off x="468360" y="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исследовательские работы РГГ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задания Минобрнауки России в сфере научной деятельности на 201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метрические показатели выполнения НИР государственного задания РГГМУ  в  20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br>
              <a:rPr sz="4300"/>
            </a:br>
            <a:endParaRPr b="0" lang="en-US" sz="20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9640" y="1268280"/>
          <a:ext cx="8353440" cy="5235840"/>
        </p:xfrm>
        <a:graphic>
          <a:graphicData uri="http://schemas.openxmlformats.org/drawingml/2006/table">
            <a:tbl>
              <a:tblPr/>
              <a:tblGrid>
                <a:gridCol w="4464000"/>
                <a:gridCol w="1873440"/>
                <a:gridCol w="2016000"/>
              </a:tblGrid>
              <a:tr h="575280">
                <a:tc rowSpan="2">
                  <a:txBody>
                    <a:bodyPr lIns="35280" rIns="35280" tIns="0" bIns="0" anchor="t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че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явленные 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тигнут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убликаций в журналах, индексируемых в базе данных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b of 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убликаций в журналах, индексируемых в базе данных Sco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8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8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убликаций в журналах, индексируемых в базе данных «Сеть нау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защищенных диссертаций на соискание ученой степени кандидата на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защищенных диссертаций на соискание ученой степени доктора на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финансирования НИР государственного задания РГГМУ в  2018 году</a:t>
            </a:r>
            <a:br>
              <a:rPr sz="2000"/>
            </a:b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а 26.02.2018 г.)</a:t>
            </a:r>
            <a:endParaRPr b="0" lang="en-US" sz="18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08000" y="1125360"/>
          <a:ext cx="8856720" cy="4753080"/>
        </p:xfrm>
        <a:graphic>
          <a:graphicData uri="http://schemas.openxmlformats.org/drawingml/2006/table">
            <a:tbl>
              <a:tblPr/>
              <a:tblGrid>
                <a:gridCol w="3978360"/>
                <a:gridCol w="1204920"/>
                <a:gridCol w="1311120"/>
                <a:gridCol w="1328760"/>
                <a:gridCol w="1033560"/>
              </a:tblGrid>
              <a:tr h="648000">
                <a:tc rowSpan="2"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про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й объем финансирования НИР гос. задания РГГМУ на 2018 год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дамен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ивные научные про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818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818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проекты, выполняемые научными коллективами научных лабораторий на конкурсной осно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о-технические сотрудники на постоянной основ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6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6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 29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 818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92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 47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39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водные сведения о выполнПроблемыяемых НИР в </a:t>
            </a: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2018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году,</a:t>
            </a:r>
            <a:br>
              <a:rPr sz="1800"/>
            </a:br>
            <a:r>
              <a:rPr b="1" i="1" lang="ru-RU" sz="1400" spc="-1" strike="noStrike">
                <a:solidFill>
                  <a:srgbClr val="000000"/>
                </a:solidFill>
                <a:latin typeface="Bookman Old Style"/>
              </a:rPr>
              <a:t>по состоянию на 26.02.2012</a:t>
            </a:r>
            <a:endParaRPr b="0" lang="en-US" sz="14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95280" y="1125360"/>
          <a:ext cx="8280360" cy="5266080"/>
        </p:xfrm>
        <a:graphic>
          <a:graphicData uri="http://schemas.openxmlformats.org/drawingml/2006/table">
            <a:tbl>
              <a:tblPr/>
              <a:tblGrid>
                <a:gridCol w="503280"/>
                <a:gridCol w="4691160"/>
                <a:gridCol w="1204920"/>
                <a:gridCol w="1881000"/>
              </a:tblGrid>
              <a:tr h="3661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Н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ыс. ру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редства министерств и ведом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 3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79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682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ФЦП « Исследования и разработки по приоритетным направлениям развития научно-технологического комплекса России на 201402020 го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682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НИР государственного задания РГГ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 29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природы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5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редства фондов поддержки нау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 2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00,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Н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озяйствующих субъ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 4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7 99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187200"/>
          <a:ext cx="9036000" cy="6670800"/>
        </p:xfrm>
        <a:graphic>
          <a:graphicData uri="http://schemas.openxmlformats.org/drawingml/2006/table">
            <a:tbl>
              <a:tblPr/>
              <a:tblGrid>
                <a:gridCol w="287280"/>
                <a:gridCol w="8748720"/>
              </a:tblGrid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направления научных исследований в 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ГГ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экономические, экологические, геополитические проблемы развития Арктической зоны Российской Федерации и защита национальных интересов в Аркти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рационального использования водных биоресурсов и аквакульту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сохранения и развития культурного наследия коренных и малочисленных народов Севера, Сибири и Дальнего Востока, особенности межкультурных и межъязыковых контактов и связей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3924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водные сведения о выполнении НИР в 2015 – 2016 </a:t>
            </a:r>
            <a:r>
              <a:rPr b="1" lang="ru-RU" sz="1800" spc="-1" strike="noStrike">
                <a:solidFill>
                  <a:srgbClr val="00b050"/>
                </a:solidFill>
                <a:latin typeface="Bookman Old Style"/>
              </a:rPr>
              <a:t>– 2017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годах</a:t>
            </a:r>
            <a:endParaRPr b="0" lang="en-US" sz="18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0" y="404640"/>
          <a:ext cx="9001080" cy="6361200"/>
        </p:xfrm>
        <a:graphic>
          <a:graphicData uri="http://schemas.openxmlformats.org/drawingml/2006/table">
            <a:tbl>
              <a:tblPr/>
              <a:tblGrid>
                <a:gridCol w="504720"/>
                <a:gridCol w="2266920"/>
                <a:gridCol w="863640"/>
                <a:gridCol w="1224000"/>
                <a:gridCol w="792360"/>
                <a:gridCol w="1225440"/>
                <a:gridCol w="900000"/>
                <a:gridCol w="122400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15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16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1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Н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ыс. ру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Н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ыс. ру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Н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ыс. ру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министерств и др. ведом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7 24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1 18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4 8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7 24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1 18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Bookman Old Style"/>
                        </a:rPr>
                        <a:t>356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природы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918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фондов поддержки науч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 7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 67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45 4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670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6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4 4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Н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04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 01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41 0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бюджета Субъекта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38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87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озяйствующих субъ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89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1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небюджетные Российсие источ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170,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 09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рубежные источ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 09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171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2f33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2f33"/>
                          </a:solidFill>
                          <a:latin typeface="Times New Roman"/>
                          <a:ea typeface="Times New Roman"/>
                        </a:rPr>
                        <a:t>109 50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 03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2 5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Участие научных коллективов и исследователей РГГМУ в Конкурсах на выполнение НИР в 2017 году</a:t>
            </a:r>
            <a:endParaRPr b="0" lang="en-US" sz="16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8000" y="907920"/>
          <a:ext cx="8893080" cy="5905800"/>
        </p:xfrm>
        <a:graphic>
          <a:graphicData uri="http://schemas.openxmlformats.org/drawingml/2006/table">
            <a:tbl>
              <a:tblPr/>
              <a:tblGrid>
                <a:gridCol w="6985080"/>
                <a:gridCol w="893520"/>
                <a:gridCol w="1014480"/>
              </a:tblGrid>
              <a:tr h="56340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тор конкур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ано зая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игра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инистерства  и ведом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обрауки Росс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ы  на выполнение НИР в рамках государственного задания (конкурс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обрауки Росс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ЦП "«Исследования и разработки по приоритетным направлениям развития научно-технологического комплекса России на 2014—2020 год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ерство культуры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Фонды поддержки научной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52560" rIns="52560" tIns="0" bIns="0" anchor="ctr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фонд фундаментальных исследований (РФФ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научный фонд (РН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редства бюджета Субъектов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52560" rIns="52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ое агенство природопользования и охраны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52560" rIns="52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ерство экологии и природопользования Москов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озяйствующие субъ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52560" rIns="52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ГБУ Центр развития ВХК (хоз/д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52560" rIns="52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нинградское областное государственное учреждение "Региональное агентство природопользования и охраны окружающей среды" (Агенство Природопользования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3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езультативность научных исследований в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2017 году</a:t>
            </a:r>
            <a:endParaRPr b="0" lang="en-US" sz="22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333360"/>
          <a:ext cx="8640720" cy="6394320"/>
        </p:xfrm>
        <a:graphic>
          <a:graphicData uri="http://schemas.openxmlformats.org/drawingml/2006/table">
            <a:tbl>
              <a:tblPr/>
              <a:tblGrid>
                <a:gridCol w="5472000"/>
                <a:gridCol w="1152720"/>
                <a:gridCol w="936360"/>
                <a:gridCol w="107964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62f33"/>
                          </a:solidFill>
                          <a:latin typeface="Bookman Old Style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н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учные публикации, всег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 индексируемых:               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6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наукометрической баз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Web of Sc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наукометрической баз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cop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изданиях, включенных  в РИН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российских научных журналах, включенных в                    перечень В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нференции, в которых участвовали работники вуза, сег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з них международ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созданных РИД всего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Заявок на объекты промышленной собствен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cc66"/>
                          </a:solidFill>
                          <a:latin typeface="Bookman Old Style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атентов России на изобрет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атентов России на полезны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Свидетельств о государственной регистрации программ для ЭВМ, баз данных, выданные Роспатен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ставки, в которых участвовали работники вуза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том числе междунар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189000"/>
          <a:ext cx="8929800" cy="6396120"/>
        </p:xfrm>
        <a:graphic>
          <a:graphicData uri="http://schemas.openxmlformats.org/drawingml/2006/table">
            <a:tbl>
              <a:tblPr/>
              <a:tblGrid>
                <a:gridCol w="71280"/>
                <a:gridCol w="3346560"/>
                <a:gridCol w="719280"/>
                <a:gridCol w="706320"/>
                <a:gridCol w="716040"/>
                <a:gridCol w="533520"/>
                <a:gridCol w="564840"/>
                <a:gridCol w="505080"/>
                <a:gridCol w="463320"/>
                <a:gridCol w="536760"/>
                <a:gridCol w="766800"/>
              </a:tblGrid>
              <a:tr h="769680">
                <a:tc gridSpan="11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дения о публикациях работников структурных подразделений РГГМУ в 2017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 данным кафед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5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урнал входит в переч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ое подраз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ных публик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йское изд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рубежное изд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урн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ор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Н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p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 of Sci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еорологический 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4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дрологический 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22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ологический 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логический 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25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ультет гидрометеорологического обеспечения экономико-управленческой деятельности в отраслях и комплекс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итут «Полярная акаде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итут информационных систем и гео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55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боратория спутниковой океанографии (ЛС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</a:tr>
              <a:tr h="409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иал РГГМУ в г. Туап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</a:tr>
              <a:tr h="344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монографиях и учебниках, изданных сотрудниками РГГМУ в 2017 году</a:t>
            </a:r>
            <a:br>
              <a:rPr sz="4300"/>
            </a:br>
            <a:endParaRPr b="0" lang="en-US" sz="16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549360"/>
          <a:ext cx="9036000" cy="6186240"/>
        </p:xfrm>
        <a:graphic>
          <a:graphicData uri="http://schemas.openxmlformats.org/drawingml/2006/table">
            <a:tbl>
              <a:tblPr/>
              <a:tblGrid>
                <a:gridCol w="452520"/>
                <a:gridCol w="2622600"/>
                <a:gridCol w="1065240"/>
                <a:gridCol w="922320"/>
                <a:gridCol w="1112760"/>
                <a:gridCol w="1192320"/>
                <a:gridCol w="890280"/>
                <a:gridCol w="777960"/>
              </a:tblGrid>
              <a:tr h="487440">
                <a:tc rowSpan="2">
                  <a:txBody>
                    <a:bodyPr lIns="53640" rIns="53640" tIns="0" bIns="0" anchor="ctr">
                      <a:noAutofit/>
                    </a:bodyPr>
                    <a:p>
                      <a:pPr marL="92160" indent="-4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3640" rIns="53640" tIns="0" bIns="0" anchor="ctr">
                      <a:noAutofit/>
                    </a:bodyPr>
                    <a:p>
                      <a:pPr marL="281160" indent="-281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Структурное 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монограф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Учеб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(учебные пособ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оличество монограф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(раздел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Российское изд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Зарубеж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изд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оличество учеб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(уч. пособ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Гриф У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Иные гри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еор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 marL="92160" indent="-4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др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еан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ультет гидрометеорологического обеспечения экономико-управленческой деятельности в отраслях и комплекс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итут «Полярная академ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итут информационных систем и гео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боратория спутниковой океанографии (ЛС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лиал РГГМУ в г. Туап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3640" rIns="53640" tIns="0" bIns="0" anchor="t">
                      <a:noAutofit/>
                    </a:bodyPr>
                    <a:p>
                      <a:pPr marL="250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 РГГ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отрудников РГГМУ в научных конференциях в 2017 году</a:t>
            </a:r>
            <a:br>
              <a:rPr sz="2200"/>
            </a:br>
            <a:endParaRPr b="0" lang="en-US" sz="22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981000"/>
          <a:ext cx="8964720" cy="5834160"/>
        </p:xfrm>
        <a:graphic>
          <a:graphicData uri="http://schemas.openxmlformats.org/drawingml/2006/table">
            <a:tbl>
              <a:tblPr/>
              <a:tblGrid>
                <a:gridCol w="441360"/>
                <a:gridCol w="2571840"/>
                <a:gridCol w="1249200"/>
                <a:gridCol w="1363680"/>
                <a:gridCol w="1281240"/>
                <a:gridCol w="1174680"/>
                <a:gridCol w="882720"/>
              </a:tblGrid>
              <a:tr h="3240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marL="250920" indent="-49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Структурное подраз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онфер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ол-во докла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Участие в конферен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Международ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Всероссий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Регион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еор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др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ctr">
                      <a:noAutofit/>
                    </a:bodyPr>
                    <a:p>
                      <a:pPr marL="14400" indent="-144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еан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ультет гидрометеорологического обеспечения экономико-управленческой деятельности в отраслях и комплекс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итут «Полярная академ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итут информационных систем и гео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ctr">
                      <a:noAutofit/>
                    </a:bodyPr>
                    <a:p>
                      <a:pPr marL="14400" indent="-144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боратория спутниковой океанографии (ЛС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лиал РГГМУ в г. Туап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 marL="250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 РГГ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тудентов РГГМУ в Конкурсах  на выполнение НИР в 2017 году</a:t>
            </a:r>
            <a:endParaRPr b="0" lang="en-US" sz="24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1197000"/>
          <a:ext cx="7991280" cy="4968720"/>
        </p:xfrm>
        <a:graphic>
          <a:graphicData uri="http://schemas.openxmlformats.org/drawingml/2006/table">
            <a:tbl>
              <a:tblPr/>
              <a:tblGrid>
                <a:gridCol w="4351320"/>
                <a:gridCol w="2012760"/>
                <a:gridCol w="1627200"/>
              </a:tblGrid>
              <a:tr h="973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тор кон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ано зая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играно зая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грантов для студентов и аспирантов на выполнение НИ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тор  КНВШ Правительства СП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ый арктический научно-образовательный консорциум ( "НАНОК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на участие в Форуме Наука будущего – Наука молод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Никита Станиславович Родин</cp:lastModifiedBy>
  <dcterms:modified xsi:type="dcterms:W3CDTF">2018-05-22T12:10:06Z</dcterms:modified>
  <cp:revision>1056</cp:revision>
  <dc:subject/>
  <dc:title>Итоговая сессия Ученого совета РГГМУ</dc:title>
</cp:coreProperties>
</file>